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Click to move the slide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6EAE-2AD9-4B3E-B0E8-EBA8E9BF8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tory:   “Before they knew what was going on, they had broken into another enormous cavern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9D9F-139F-4E74-B22B-A70DD0232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tory “Before they could geth their bearings, the escape routes had filled with water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2388-9591-4B00-A8C5-23BB561D34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tory:  “The air was pressurized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C0B0-918E-4DCF-A1E0-797EDE74E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tory:   “It was a bleak thought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5A25-4D52-4D01-9F62-B59BBB476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tory:   “The delay had been agonizi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F9DD-60CA-44A7-8733-9EFF21424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tory:   “But the medical exams were irrelevant compared to the reunions that were going o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1CB0-A972-40A7-A755-E390A009E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tory “The miners emerged from the caver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7BCD-A949-4397-8032-F298EA738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2FC9-A753-4EA6-89AE-5C473D01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171-333A-493E-B99E-51340B5D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02C-F0D3-4F2A-A0D1-A6CDB210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1E60-99E3-489C-9938-4A1C183B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D54B-AAD0-4DD3-B34B-C4F50C3F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FD4F-57C4-43BB-8D4A-ED8B46B5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A368-7D15-4F22-8D47-29751B5A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0343-FDFD-46F8-92DE-148A16FB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533B-2B95-4B1A-9344-63662272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9EE0-FDC1-45A1-86EA-DEADB45F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4FE4-F009-40F7-B67A-35FD0FBB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E0EF-2BBC-416A-9E5F-14984001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F652-FB41-49F1-80C2-4D689F04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C7DC-A78C-40C0-BA3C-CED10697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A34C-4F77-4EA7-9131-7766EB15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E976-5B51-4467-9490-F9BB7AA2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D446-5933-45F5-BA92-D488A1DF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089EB-BF81-4C6F-96E7-D28B01EC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6656E-FEC2-4C28-9C2D-4E82F5B6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DF08D-6E25-4B83-B187-5F196350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3E82A-C460-428A-A0E3-C514CD2C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6EDD8-20B4-4488-AFEC-1E7152DD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836-4BDC-4834-806A-08DD18A6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16E05-B23E-452F-9DEA-7A17E17D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017FD-3475-443E-AAF7-73018D9C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230BB-AF35-4CB0-8588-39DA383B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4B729-4E1A-423C-8C22-406B1762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18BE4-B107-4E5C-A376-A1B4D402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E226B-B2CE-4799-903D-DB4F1D31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CA150-62E7-49F6-A671-85122DE9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6FEF-1E74-42D9-8A26-63944D82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27A7-9157-46BB-B719-BAEC5F65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1D9-0DDD-4A9E-82E9-5FC5EAAF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C36-B008-4A26-B99D-8F5E32CA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D885-DFD3-4A61-A354-28DFDC00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3BC-50C3-4B22-BB34-2AA0F773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8191440" y="6229440"/>
            <a:ext cx="952560" cy="62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Click to edit the title text format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Click to edit the outline text format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1" marL="653760" indent="-2512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con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2" marL="1005840" indent="-2008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Thir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3" marL="1407960" indent="-2008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our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4" marL="1810440" indent="-200880">
              <a:spcBef>
                <a:spcPts val="1001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if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ix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ven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EC31-1912-43AB-B9FC-551DA23DE4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"/>
          <p:cNvPicPr/>
          <p:nvPr/>
        </p:nvPicPr>
        <p:blipFill>
          <a:blip r:embed="rId4"/>
          <a:stretch/>
        </p:blipFill>
        <p:spPr>
          <a:xfrm>
            <a:off x="0" y="6705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"/>
          <p:cNvPicPr/>
          <p:nvPr/>
        </p:nvPicPr>
        <p:blipFill>
          <a:blip r:embed="rId5"/>
          <a:stretch/>
        </p:blipFill>
        <p:spPr>
          <a:xfrm>
            <a:off x="0" y="9216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"/>
          <p:cNvPicPr/>
          <p:nvPr/>
        </p:nvPicPr>
        <p:blipFill>
          <a:blip r:embed="rId6"/>
          <a:stretch/>
        </p:blipFill>
        <p:spPr>
          <a:xfrm>
            <a:off x="8991720" y="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1" descr=""/>
          <p:cNvPicPr/>
          <p:nvPr/>
        </p:nvPicPr>
        <p:blipFill>
          <a:blip r:embed="rId7"/>
          <a:stretch/>
        </p:blipFill>
        <p:spPr>
          <a:xfrm>
            <a:off x="228600" y="6248520"/>
            <a:ext cx="10382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8191440" y="6229440"/>
            <a:ext cx="952560" cy="62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4"/>
          <a:stretch/>
        </p:blipFill>
        <p:spPr>
          <a:xfrm>
            <a:off x="0" y="6705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5"/>
          <a:stretch/>
        </p:blipFill>
        <p:spPr>
          <a:xfrm>
            <a:off x="0" y="9216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6"/>
          <a:stretch/>
        </p:blipFill>
        <p:spPr>
          <a:xfrm>
            <a:off x="8991720" y="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7"/>
          <a:stretch/>
        </p:blipFill>
        <p:spPr>
          <a:xfrm>
            <a:off x="228600" y="6248520"/>
            <a:ext cx="1038240" cy="457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Click to edit the title text format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Click to edit the outline text format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1" marL="653760" indent="-2512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con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2" marL="1005840" indent="-2008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Thir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3" marL="1407960" indent="-2008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our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4" marL="1810440" indent="-200880">
              <a:spcBef>
                <a:spcPts val="1001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if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ix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ven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eece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9CEE-5E34-49D6-ACAD-E823F0463990}" type="slidenum">
              <a:rPr b="0" lang="en-US" sz="1600" spc="-1" strike="noStrike">
                <a:solidFill>
                  <a:srgbClr val="eeece1"/>
                </a:solidFill>
                <a:latin typeface="Brush Script MT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8191440" y="6229440"/>
            <a:ext cx="952560" cy="62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4"/>
          <a:stretch/>
        </p:blipFill>
        <p:spPr>
          <a:xfrm>
            <a:off x="0" y="6705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5"/>
          <a:stretch/>
        </p:blipFill>
        <p:spPr>
          <a:xfrm>
            <a:off x="0" y="9216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6"/>
          <a:stretch/>
        </p:blipFill>
        <p:spPr>
          <a:xfrm>
            <a:off x="8991720" y="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7"/>
          <a:stretch/>
        </p:blipFill>
        <p:spPr>
          <a:xfrm>
            <a:off x="228600" y="6248520"/>
            <a:ext cx="103824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User\Local Settings\Temporary Internet Files\Content.IE5\STEB01UR\MCj04348230000[1].png"/>
          <p:cNvPicPr/>
          <p:nvPr/>
        </p:nvPicPr>
        <p:blipFill>
          <a:blip r:embed="rId8"/>
          <a:stretch/>
        </p:blipFill>
        <p:spPr>
          <a:xfrm>
            <a:off x="8305920" y="6095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Click to edit the title text format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Click to edit the outline text format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1" marL="653760" indent="-2512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con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2" marL="1005840" indent="-2008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Thir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3" marL="1407960" indent="-2008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our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4" marL="1810440" indent="-200880">
              <a:spcBef>
                <a:spcPts val="1001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if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ix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ven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4B2F-BFD8-4735-A98E-A60E37AF942B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"The Coal Mine Disaster"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Lucida Calligraphy"/>
              </a:rPr>
              <a:t>By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Lucida Calligraphy"/>
              </a:rPr>
              <a:t>Michael Dahlie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Your task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	</a:t>
            </a:r>
            <a:r>
              <a:rPr b="0" lang="en-US" sz="5400" spc="-1" strike="noStrike">
                <a:solidFill>
                  <a:srgbClr val="f2f2f2"/>
                </a:solidFill>
                <a:latin typeface="Brush Script MT"/>
              </a:rPr>
              <a:t>With your partner, learn the definitions and be ready to use the word in a sentence.</a:t>
            </a:r>
            <a:endParaRPr b="0" lang="en-US" sz="54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1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oal Mine Disas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521B-8151-43DB-B481-6509974A1236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This week's words and phrases: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cavern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“</a:t>
            </a: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get your bearings”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ingenious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pressurized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bleak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agonizing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irrelevant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1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oal Mine Disas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09A5-0411-4BF2-8AD7-CA84C1CD1B36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This week's words and phrases: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cavern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“</a:t>
            </a: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get your bearings”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ingenious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pressurized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bleak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agonizing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Bookman Old Style"/>
              </a:rPr>
              <a:t>irrelevant</a:t>
            </a: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1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oal Mine Disas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CDBB-E23B-41B5-BAB7-AE1D36F27A4F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cavern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ookman Old Style"/>
              </a:rPr>
              <a:t>a large deep cave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87C7-3C7A-4D82-8798-C2340EA39341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1,Underground-At-Kents-Cavern,P1070608.jpg"/>
          <p:cNvPicPr/>
          <p:nvPr/>
        </p:nvPicPr>
        <p:blipFill>
          <a:blip r:embed="rId1"/>
          <a:stretch/>
        </p:blipFill>
        <p:spPr>
          <a:xfrm>
            <a:off x="2971800" y="2438280"/>
            <a:ext cx="482616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"get your bearings"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ookman Old Style"/>
              </a:rPr>
              <a:t>a phrase that means to find out where you are or what you will do next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615A-BA2D-4A59-B1FC-6287239E8BDE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bearings.jpg"/>
          <p:cNvPicPr/>
          <p:nvPr/>
        </p:nvPicPr>
        <p:blipFill>
          <a:blip r:embed="rId1"/>
          <a:stretch/>
        </p:blipFill>
        <p:spPr>
          <a:xfrm>
            <a:off x="4191120" y="31240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pressurized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ookman Old Style"/>
              </a:rPr>
              <a:t>describes when the pressure inside a container or room is different than the pressure outside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6CDB-92FF-41CC-903D-23CF3D87CD23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Filter-dwg-stage2.gif"/>
          <p:cNvPicPr/>
          <p:nvPr/>
        </p:nvPicPr>
        <p:blipFill>
          <a:blip r:embed="rId1"/>
          <a:stretch/>
        </p:blipFill>
        <p:spPr>
          <a:xfrm>
            <a:off x="4343400" y="3809880"/>
            <a:ext cx="21812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bleak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ookman Old Style"/>
              </a:rPr>
              <a:t>something that is bad and unlikely to improve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D69C-3313-433D-85FB-02A364532E4B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Cumulus_clouds_bleak.jpg"/>
          <p:cNvPicPr/>
          <p:nvPr/>
        </p:nvPicPr>
        <p:blipFill>
          <a:blip r:embed="rId1"/>
          <a:stretch/>
        </p:blipFill>
        <p:spPr>
          <a:xfrm>
            <a:off x="3581280" y="3352680"/>
            <a:ext cx="411480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agonizing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ookman Old Style"/>
              </a:rPr>
              <a:t>something that causes you to feel great physical or mental pain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AA28-4AB1-42B1-954D-B522B74C2444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agonizing.jpg"/>
          <p:cNvPicPr/>
          <p:nvPr/>
        </p:nvPicPr>
        <p:blipFill>
          <a:blip r:embed="rId1"/>
          <a:stretch/>
        </p:blipFill>
        <p:spPr>
          <a:xfrm>
            <a:off x="4419720" y="3429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irrelevant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ookman Old Style"/>
              </a:rPr>
              <a:t>something that is not important or connected with the present situation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635F-C560-4407-A5FD-D3C6D072510E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p249347-Monument_Valley_UT-An_irrelevant_sign.jpg"/>
          <p:cNvPicPr/>
          <p:nvPr/>
        </p:nvPicPr>
        <p:blipFill>
          <a:blip r:embed="rId1"/>
          <a:stretch/>
        </p:blipFill>
        <p:spPr>
          <a:xfrm>
            <a:off x="3733920" y="3733920"/>
            <a:ext cx="5410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emerged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ookman Old Style"/>
              </a:rPr>
              <a:t>to appear or come out from somewhere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4251-89F7-40EC-A700-6A5DD9F916E1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emerged from cave.jpg"/>
          <p:cNvPicPr/>
          <p:nvPr/>
        </p:nvPicPr>
        <p:blipFill>
          <a:blip r:embed="rId1"/>
          <a:stretch/>
        </p:blipFill>
        <p:spPr>
          <a:xfrm>
            <a:off x="3124080" y="32004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01:48:20Z</dcterms:created>
  <dc:creator>lhockenberry</dc:creator>
  <dc:description/>
  <dc:language>en-US</dc:language>
  <cp:lastModifiedBy>lhockenberry</cp:lastModifiedBy>
  <dcterms:modified xsi:type="dcterms:W3CDTF">2008-11-06T21:40:41Z</dcterms:modified>
  <cp:revision>3</cp:revision>
  <dc:subject/>
  <dc:title>"The Coal Mine Disaster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11671033</vt:lpwstr>
  </property>
</Properties>
</file>